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75BF1-8066-4132-9BFA-DC6AA7601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93FC6-BFEE-43C6-A471-CC9D33A90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F2747-5F04-4617-94CC-34539ED78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70A65-DEA3-4B5A-9CD1-5A18F6DF8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5EF07-B163-4302-BB99-1B468EF9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1A4EE-E25A-4C65-AD50-16F291F8C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4CF61-26AB-431B-9B16-9728467B5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3493-0342-4531-A43E-E04A5857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A2D86-9617-4BC1-9943-36019B7BB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CAAE-BED9-4518-A8A2-967020FBE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0E42-979D-4BEE-9B0A-BA84B7241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1CF19-CC2F-4FE9-8F7A-A29A0FE78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6193-DAA4-4FA3-9B97-4F2E46DCB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res99.com/nexres/api/sabre_pict.cgi?photo=059459A.jpg" TargetMode="External"/><Relationship Id="rId2" Type="http://schemas.openxmlformats.org/officeDocument/2006/relationships/image" Target="../media/image2.jpeg"/><Relationship Id="rId3" Type="http://schemas.openxmlformats.org/officeDocument/2006/relationships/hyperlink" Target="http://images.google.com/imgres?imgurl=http://media-cdn.tripadvisor.com/media/photo-s/01/09/4b/e5/hall-hotel.jpg&amp;imgrefurl=http://www.tripadvisor.com/LocationPhotos-g298537-Volgograd_South_Russia.html&amp;usg=__q5SVs9mIT6DULYtBi9DwIutWGeA=&amp;h=412&amp;w=550&amp;sz=38&amp;hl=en&amp;start=7&amp;tbnid=BTIesoSYmHAGaM:&amp;tbnh=100&amp;tbnw=133&amp;prev=/images%3Fq%3DIntourist%2Bhotel%26gbv%3D2%26hl%3Den%26safe%3Dactive%26sa%3DG" TargetMode="External"/><Relationship Id="rId4" Type="http://schemas.openxmlformats.org/officeDocument/2006/relationships/image" Target="../media/image3.jpeg"/><Relationship Id="rId5" Type="http://schemas.openxmlformats.org/officeDocument/2006/relationships/hyperlink" Target="http://www.hotelclub.net/common/imagegallery/HotelImage.aspx?hid=24537" TargetMode="External"/><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ltu.se/polopoly_fs/1.27277!russia_pit_06_red.jpg&amp;imgrefurl=http://www.ltu.se/tkg/avd/kgo/forsk/IGCP/d2527/d3145/1.27277&amp;usg=__rcVmgn-BKLGTTgMOF0hVD040-MY=&amp;h=748&amp;w=1000&amp;sz=309&amp;hl=en&amp;start=11&amp;tbnid=gpGiVFjn2GuhSM:&amp;tbnh=111&amp;tbnw=149&amp;prev=/images%3Fq%3Dural%2Bmountains%26gbv%3D2%26hl%3Den%26safe%3Dactive" TargetMode="External"/><Relationship Id="rId2" Type="http://schemas.openxmlformats.org/officeDocument/2006/relationships/image" Target="../media/image5.jpeg"/><Relationship Id="rId3" Type="http://schemas.openxmlformats.org/officeDocument/2006/relationships/hyperlink" Target="http://images.google.com/imgres?imgurl=http://i1.trekearth.com/photos/5716/winter.jpg&amp;imgrefurl=http://www.trekearth.com/gallery/Asia/Russia/Ural/Bashkiria/photo130793.htm&amp;usg=__0XOolSXc23bIVUlETYt4c4viZko=&amp;h=563&amp;w=750&amp;sz=95&amp;hl=en&amp;start=12&amp;tbnid=dgGLxgA0aoSWdM:&amp;tbnh=106&amp;tbnw=141&amp;prev=/images%3Fq%3Dural%2Bmountains%26gbv%3D2%26hl%3Den%26safe%3Dactive" TargetMode="External"/><Relationship Id="rId4" Type="http://schemas.openxmlformats.org/officeDocument/2006/relationships/image" Target="../media/image6.jpeg"/><Relationship Id="rId5" Type="http://schemas.openxmlformats.org/officeDocument/2006/relationships/hyperlink" Target="http://images.google.com/imgres?imgurl=http://updatecenter.britannica.com/eb/image%3FbinaryId%3D12007%26rendTypeId%3D4&amp;imgrefurl=http://updatecenter.britannica.com/art%3FassemblyId%3D36908%26type%3DA&amp;usg=__RgEPQqsHpXowJJli2DA1NX9Q32Y=&amp;h=300&amp;w=296&amp;sz=18&amp;hl=en&amp;start=8&amp;tbnid=fCh7Yn0Rh378JM:&amp;tbnh=116&amp;tbnw=114&amp;prev=/images%3Fq%3Dural%2Bmountains%26gbv%3D2%26hl%3Den%26safe%3Dactive" TargetMode="External"/><Relationship Id="rId6" Type="http://schemas.openxmlformats.org/officeDocument/2006/relationships/image" Target="../media/image7.jpeg"/><Relationship Id="rId7" Type="http://schemas.openxmlformats.org/officeDocument/2006/relationships/hyperlink" Target="http://images.google.com/imgres?imgurl=http://media-2.web.britannica.com/eb-media/73/373-004-99BC97B9.gif&amp;imgrefurl=http://www.britannica.com/EBchecked/topic-art/619028/1452/The-Ural-Mountains&amp;usg=__JmREwHDNL5UQ9_Fd7oQWe4VkXDk=&amp;h=739&amp;w=350&amp;sz=92&amp;hl=en&amp;start=5&amp;tbnid=aXeoaSf7sH5XmM:&amp;tbnh=141&amp;tbnw=67&amp;prev=/images%3Fq%3Dural%2Bmountains%26gbv%3D2%26hl%3Den%26safe%3Dactive" TargetMode="Externa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h4.ggpht.com/_mUQ8AQZuBv0/RzOq8P40RXI/AAAAAAAAA-Y/GRLoZPVzPoU/cnv00061.jpg" TargetMode="External"/><Relationship Id="rId2" Type="http://schemas.openxmlformats.org/officeDocument/2006/relationships/image" Target="../media/image9.jpeg"/><Relationship Id="rId3" Type="http://schemas.openxmlformats.org/officeDocument/2006/relationships/hyperlink" Target="http://images.google.com/imgres?imgurl=http://counties.cce.cornell.edu/sullivan/snow%2520flakes%2520copy.jpg&amp;imgrefurl=http://www.sullivancce.org/&amp;usg=__35gvYvBvHbjI-YDeXLSXuEZ8knk=&amp;h=403&amp;w=403&amp;sz=165&amp;hl=en&amp;start=3&amp;tbnid=CFU4DFJoM_hQyM:&amp;tbnh=124&amp;tbnw=124&amp;prev=/images%3Fq%3Dsnow%2Bflakes%26gbv%3D2%26hl%3Den%26safe%3Dactive%26sa%3DG" TargetMode="External"/><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Tr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Tran-Siberian Railroad.</a:t>
            </a:r>
            <a:endParaRPr b="0" lang="en-US" sz="3200" spc="-1" strike="noStrike">
              <a:solidFill>
                <a:srgbClr val="000000"/>
              </a:solidFill>
              <a:latin typeface="Arial"/>
            </a:endParaRPr>
          </a:p>
        </p:txBody>
      </p:sp>
      <p:pic>
        <p:nvPicPr>
          <p:cNvPr id="43" name="" descr="Trans-Siberian route map showing Trans-Mongolian and Trans-Manchurian routes"/>
          <p:cNvPicPr/>
          <p:nvPr/>
        </p:nvPicPr>
        <p:blipFill>
          <a:blip r:embed="rId1"/>
          <a:stretch/>
        </p:blipFill>
        <p:spPr>
          <a:xfrm>
            <a:off x="-152280" y="0"/>
            <a:ext cx="9144000" cy="6681960"/>
          </a:xfrm>
          <a:prstGeom prst="rect">
            <a:avLst/>
          </a:prstGeom>
          <a:ln w="0">
            <a:noFill/>
          </a:ln>
        </p:spPr>
      </p:pic>
      <p:sp>
        <p:nvSpPr>
          <p:cNvPr id="44" name=""/>
          <p:cNvSpPr/>
          <p:nvPr/>
        </p:nvSpPr>
        <p:spPr>
          <a:xfrm>
            <a:off x="2590920" y="19810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2590920" y="2209680"/>
            <a:ext cx="28191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ur Trip...</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
          <p:cNvSpPr txBox="1"/>
          <p:nvPr/>
        </p:nvSpPr>
        <p:spPr>
          <a:xfrm>
            <a:off x="838080" y="3886200"/>
            <a:ext cx="6363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long the Trans-Siberian Railroad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At Mosco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When we got to Moscow we decided to stay in the Intourist Hotel, after we bought our tickets to ride the Tran Siberian railroad all the way to Vladivostok</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6477120" y="228600"/>
            <a:ext cx="1904760" cy="1376280"/>
          </a:xfrm>
          <a:prstGeom prst="rect">
            <a:avLst/>
          </a:prstGeom>
          <a:ln w="0">
            <a:noFill/>
          </a:ln>
        </p:spPr>
      </p:pic>
      <p:pic>
        <p:nvPicPr>
          <p:cNvPr id="50" name="" descr="">
            <a:hlinkClick r:id="rId3"/>
          </p:cNvPr>
          <p:cNvPicPr/>
          <p:nvPr/>
        </p:nvPicPr>
        <p:blipFill>
          <a:blip r:embed="rId4"/>
          <a:stretch/>
        </p:blipFill>
        <p:spPr>
          <a:xfrm>
            <a:off x="2971800" y="3657600"/>
            <a:ext cx="3505320" cy="2635200"/>
          </a:xfrm>
          <a:prstGeom prst="rect">
            <a:avLst/>
          </a:prstGeom>
          <a:ln w="0">
            <a:noFill/>
          </a:ln>
        </p:spPr>
      </p:pic>
      <p:pic>
        <p:nvPicPr>
          <p:cNvPr id="51" name="" descr="">
            <a:hlinkClick r:id="rId5"/>
          </p:cNvPr>
          <p:cNvPicPr/>
          <p:nvPr/>
        </p:nvPicPr>
        <p:blipFill>
          <a:blip r:embed="rId6"/>
          <a:stretch/>
        </p:blipFill>
        <p:spPr>
          <a:xfrm>
            <a:off x="1219320" y="228600"/>
            <a:ext cx="1447560" cy="129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50000">
              <a:srgbClr val="00ffff"/>
            </a:gs>
            <a:gs pos="100000">
              <a:srgbClr val="00ff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al mount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we first got on the train, the first thing we approached  were the Ural Mountains. “The Ural mountains stretch 2000 km”, said our guide, after we got off the train to hike the mountains.”</a:t>
            </a:r>
            <a:endParaRPr b="0" lang="en-US" sz="3200" spc="-1" strike="noStrike">
              <a:solidFill>
                <a:srgbClr val="000000"/>
              </a:solidFill>
              <a:latin typeface="Arial"/>
            </a:endParaRPr>
          </a:p>
        </p:txBody>
      </p:sp>
      <p:pic>
        <p:nvPicPr>
          <p:cNvPr id="54" name="" descr="">
            <a:hlinkClick r:id="rId1"/>
          </p:cNvPr>
          <p:cNvPicPr/>
          <p:nvPr/>
        </p:nvPicPr>
        <p:blipFill>
          <a:blip r:embed="rId2"/>
          <a:stretch/>
        </p:blipFill>
        <p:spPr>
          <a:xfrm>
            <a:off x="6781680" y="228600"/>
            <a:ext cx="1981440" cy="1476360"/>
          </a:xfrm>
          <a:prstGeom prst="rect">
            <a:avLst/>
          </a:prstGeom>
          <a:ln w="0">
            <a:noFill/>
          </a:ln>
        </p:spPr>
      </p:pic>
      <p:pic>
        <p:nvPicPr>
          <p:cNvPr id="55" name="" descr="">
            <a:hlinkClick r:id="rId3"/>
          </p:cNvPr>
          <p:cNvPicPr/>
          <p:nvPr/>
        </p:nvPicPr>
        <p:blipFill>
          <a:blip r:embed="rId4"/>
          <a:stretch/>
        </p:blipFill>
        <p:spPr>
          <a:xfrm>
            <a:off x="533520" y="228600"/>
            <a:ext cx="1904760" cy="1432080"/>
          </a:xfrm>
          <a:prstGeom prst="rect">
            <a:avLst/>
          </a:prstGeom>
          <a:ln w="0">
            <a:noFill/>
          </a:ln>
        </p:spPr>
      </p:pic>
      <p:pic>
        <p:nvPicPr>
          <p:cNvPr id="56" name="" descr="">
            <a:hlinkClick r:id="rId5"/>
          </p:cNvPr>
          <p:cNvPicPr/>
          <p:nvPr/>
        </p:nvPicPr>
        <p:blipFill>
          <a:blip r:embed="rId6"/>
          <a:stretch/>
        </p:blipFill>
        <p:spPr>
          <a:xfrm>
            <a:off x="762120" y="4191120"/>
            <a:ext cx="3276360" cy="2095560"/>
          </a:xfrm>
          <a:prstGeom prst="rect">
            <a:avLst/>
          </a:prstGeom>
          <a:ln w="0">
            <a:noFill/>
          </a:ln>
        </p:spPr>
      </p:pic>
      <p:pic>
        <p:nvPicPr>
          <p:cNvPr id="57" name="" descr="">
            <a:hlinkClick r:id="rId7"/>
          </p:cNvPr>
          <p:cNvPicPr/>
          <p:nvPr/>
        </p:nvPicPr>
        <p:blipFill>
          <a:blip r:embed="rId8"/>
          <a:stretch/>
        </p:blipFill>
        <p:spPr>
          <a:xfrm>
            <a:off x="6553080" y="4191120"/>
            <a:ext cx="1629000" cy="218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e first city we approached was Ekaterinberg. While many people were getting on and off, we were freezing inside since it was windy and cold </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609480" y="3733920"/>
            <a:ext cx="1805040" cy="2724120"/>
          </a:xfrm>
          <a:prstGeom prst="rect">
            <a:avLst/>
          </a:prstGeom>
          <a:ln w="0">
            <a:noFill/>
          </a:ln>
        </p:spPr>
      </p:pic>
      <p:pic>
        <p:nvPicPr>
          <p:cNvPr id="61" name="" descr="">
            <a:hlinkClick r:id="rId3"/>
          </p:cNvPr>
          <p:cNvPicPr/>
          <p:nvPr/>
        </p:nvPicPr>
        <p:blipFill>
          <a:blip r:embed="rId4"/>
          <a:stretch/>
        </p:blipFill>
        <p:spPr>
          <a:xfrm>
            <a:off x="5943600" y="4572000"/>
            <a:ext cx="1981080" cy="1600200"/>
          </a:xfrm>
          <a:prstGeom prst="rect">
            <a:avLst/>
          </a:prstGeom>
          <a:ln w="0">
            <a:noFill/>
          </a:ln>
        </p:spPr>
      </p:pic>
      <p:pic>
        <p:nvPicPr>
          <p:cNvPr id="62" name="" descr=""/>
          <p:cNvPicPr/>
          <p:nvPr/>
        </p:nvPicPr>
        <p:blipFill>
          <a:blip r:embed="rId5"/>
          <a:stretch/>
        </p:blipFill>
        <p:spPr>
          <a:xfrm>
            <a:off x="3124080" y="152280"/>
            <a:ext cx="3087720" cy="157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00"/>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kutsk</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ere heading for Irkutsk, which was another popular stopping point. Irkutsk is just east of Lake Baikal </a:t>
            </a:r>
            <a:endParaRPr b="0" lang="en-US" sz="3200" spc="-1" strike="noStrike">
              <a:solidFill>
                <a:srgbClr val="000000"/>
              </a:solidFill>
              <a:latin typeface="Arial"/>
            </a:endParaRPr>
          </a:p>
        </p:txBody>
      </p:sp>
      <p:pic>
        <p:nvPicPr>
          <p:cNvPr id="65" name="" descr="Lake Baikal"/>
          <p:cNvPicPr/>
          <p:nvPr/>
        </p:nvPicPr>
        <p:blipFill>
          <a:blip r:embed="rId1"/>
          <a:stretch/>
        </p:blipFill>
        <p:spPr>
          <a:xfrm>
            <a:off x="914400" y="3200400"/>
            <a:ext cx="2190600" cy="2914560"/>
          </a:xfrm>
          <a:prstGeom prst="rect">
            <a:avLst/>
          </a:prstGeom>
          <a:ln w="0">
            <a:noFill/>
          </a:ln>
        </p:spPr>
      </p:pic>
      <p:sp>
        <p:nvSpPr>
          <p:cNvPr id="66" name=""/>
          <p:cNvSpPr/>
          <p:nvPr/>
        </p:nvSpPr>
        <p:spPr>
          <a:xfrm>
            <a:off x="1066680" y="4644360"/>
            <a:ext cx="6477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4648320" y="3341520"/>
            <a:ext cx="426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kutsk is sunny, filled with colorful 18th century buildings and sculptured old wooden houses where the political rebels lived. Brick mansions were built in the early century, and the dark wooden cabins were modernized with a local "lace" sculpture that gives them a touch of the Italian taste. The Tran-Siberian railroad made Irkutsk grow in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996633"/>
            </a:gs>
            <a:gs pos="100000">
              <a:srgbClr val="ffcc66"/>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e finally reached Vladivostok after traveling through Chita and Khabarovsk. It was seven long days of closed in, tiny toilets, uncomfortable beds, and horrible food but we made it!!! </a:t>
            </a:r>
            <a:endParaRPr b="0" lang="en-US" sz="3200" spc="-1" strike="noStrike">
              <a:solidFill>
                <a:srgbClr val="000000"/>
              </a:solidFill>
              <a:latin typeface="Arial"/>
            </a:endParaRPr>
          </a:p>
        </p:txBody>
      </p:sp>
      <p:pic>
        <p:nvPicPr>
          <p:cNvPr id="69" name="" descr=""/>
          <p:cNvPicPr/>
          <p:nvPr/>
        </p:nvPicPr>
        <p:blipFill>
          <a:blip r:embed="rId1"/>
          <a:stretch/>
        </p:blipFill>
        <p:spPr>
          <a:xfrm>
            <a:off x="762120" y="3124080"/>
            <a:ext cx="2276280" cy="1714680"/>
          </a:xfrm>
          <a:prstGeom prst="rect">
            <a:avLst/>
          </a:prstGeom>
          <a:ln w="0">
            <a:noFill/>
          </a:ln>
        </p:spPr>
      </p:pic>
      <p:pic>
        <p:nvPicPr>
          <p:cNvPr id="70" name="" descr="A 4-berth cabin on the FESCO ferry from Vladivostok to Japan."/>
          <p:cNvPicPr/>
          <p:nvPr/>
        </p:nvPicPr>
        <p:blipFill>
          <a:blip r:embed="rId2"/>
          <a:stretch/>
        </p:blipFill>
        <p:spPr>
          <a:xfrm>
            <a:off x="3276720" y="3124080"/>
            <a:ext cx="2533680" cy="1905120"/>
          </a:xfrm>
          <a:prstGeom prst="rect">
            <a:avLst/>
          </a:prstGeom>
          <a:ln w="0">
            <a:noFill/>
          </a:ln>
        </p:spPr>
      </p:pic>
      <p:pic>
        <p:nvPicPr>
          <p:cNvPr id="71" name="" descr=""/>
          <p:cNvPicPr/>
          <p:nvPr/>
        </p:nvPicPr>
        <p:blipFill>
          <a:blip r:embed="rId3"/>
          <a:stretch/>
        </p:blipFill>
        <p:spPr>
          <a:xfrm>
            <a:off x="6172200" y="2971800"/>
            <a:ext cx="157176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19:33:24Z</dcterms:created>
  <dc:creator>sarahmoshier</dc:creator>
  <dc:description/>
  <dc:language>en-US</dc:language>
  <cp:lastModifiedBy>sarahmoshier</cp:lastModifiedBy>
  <dcterms:modified xsi:type="dcterms:W3CDTF">2008-11-25T19:51:43Z</dcterms:modified>
  <cp:revision>8</cp:revision>
  <dc:subject/>
  <dc:title>Our Trip…</dc:title>
</cp:coreProperties>
</file>